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wmf" ContentType="image/x-wmf"/>
  <Override PartName="/ppt/media/image16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5.jpeg" ContentType="image/jpeg"/>
  <Override PartName="/ppt/media/image11.wmf" ContentType="image/x-wmf"/>
  <Override PartName="/ppt/media/image14.png" ContentType="image/png"/>
  <Override PartName="/ppt/media/image13.wmf" ContentType="image/x-wmf"/>
  <Override PartName="/ppt/media/image32.jpeg" ContentType="image/jpeg"/>
  <Override PartName="/ppt/media/image34.wmf" ContentType="image/x-wmf"/>
  <Override PartName="/ppt/media/image38.wmf" ContentType="image/x-wmf"/>
  <Override PartName="/ppt/media/image39.png" ContentType="image/png"/>
  <Override PartName="/ppt/media/image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28.wmf" ContentType="image/x-wmf"/>
  <Override PartName="/ppt/media/image46.png" ContentType="image/png"/>
  <Override PartName="/ppt/media/image35.wmf" ContentType="image/x-wmf"/>
  <Override PartName="/ppt/media/image36.png" ContentType="image/png"/>
  <Override PartName="/ppt/media/image48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30.wmf" ContentType="image/x-wmf"/>
  <Override PartName="/ppt/media/image2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434-A230-4CD5-B87F-D6962157A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FE7A-B968-458E-A317-100AF9CE9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endees can brainstorm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5FE-98A1-4DA8-8DBC-99D3E11CA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8FF-EABE-4659-9F84-A6444D4A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4DE-62C7-4D7B-BC68-AD3E0582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DF7-FE52-46A1-B195-E2895A2C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5C0-B8AC-459B-8E7F-C899E0F6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EF7B-AB31-46F4-8D3C-9BC9B347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4DA9-5999-4A86-83B7-E5F554B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8C0A-847C-4FF6-A447-682C6EC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FD3D-32EA-4AD3-BD7D-0BCD66A7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4973-5539-4F02-B6EB-50B2469B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5D1C-77D2-404A-B8DE-0AF7F7F5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01ED-1190-4564-BC0B-F0BA6E7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013-4BFF-4295-AF5D-3BF5DBD1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09D4-5437-4FBC-BC02-59E7708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A9D-DD78-4415-A393-7DDC8F3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6D9-6A81-4D44-ACAA-3B54124D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CCF2-392A-4FA1-897D-9A3A3691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7D4A-BE54-498C-BF4B-10180636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C14A-714E-4C88-BD16-7E379AF9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7EC4-C6F7-4465-97A6-8BB7AA4B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AE55-8715-46D1-8F30-6460F95A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DAAD-C1D9-460F-BDFE-BB70608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D30C-189C-49CD-B956-D86AE30A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A8B-24AA-4F45-9EFC-AD037061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5A4D-2213-4079-895A-DD75F991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7FEC-373E-4FA6-9EC8-6B42DA1D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D279-EC58-4960-91CD-4D67F6AE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9228-D41B-435A-977E-4767544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EEC5-6C46-4BF1-ACEC-ABB6C02B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60AA-1A49-43FE-AE19-71F93847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822E-0579-432B-BF86-4ED7D822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0E281-7170-478E-804E-707F8F4F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E8B8-F4A1-45F1-9A33-E6F5F266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D843-6818-4FB9-9A3B-D02130BC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A01-FFC2-472B-A96E-88E6505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F5E9-1B12-4D96-9B06-F432CC02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B79F-5CAD-440D-978B-8CDF8C7C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F4B79-2537-4018-8A30-4186EC2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3603-D4D5-4D7A-8A8A-4F3C0544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86A9B-F594-43C2-847D-AEC2455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7C27-BDED-4D37-9EF7-380A765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171A-DBA1-445C-A294-6DA1774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737C-5AB1-42B9-A3AB-50CC9A9F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5AF0-E1ED-4788-8B24-3511FAF3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BAA4B-76FA-473A-BE38-FA706B80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5F7-710A-4D66-A51B-01D7A3FD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D13B-FDB1-4CF0-B55F-B28A0EF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E477-8CA3-4610-8208-5F8C28D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E6285-DC67-4C2F-88B5-2A41C06E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FABE0-1E0B-4E25-8957-D9562D5D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1C251-9C77-4014-91D7-92B09BC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918CD-C684-422C-AE00-843D830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BCC0-D153-4B1F-B3F2-19CF0B4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53F1-F154-4352-A6D7-EC5D804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A2AE-FE53-430D-A71A-6C896631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FA57B-33A7-4839-AE35-0328A120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D39-E700-47C7-84F5-C366A6E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D51A-79AA-4B9D-8ACF-A56B107F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0781D-9164-4823-8D2A-5B98B500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3DE0-3207-44B3-BD5A-B7147B0A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DCBD0-B13B-4738-A2EF-A83822BE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BC26-EE42-4FD4-A455-B9499C64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D8ECB-A5F8-4CC7-A640-F16E513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D3340-AF6B-4956-9C67-3BE6A67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938E-F832-4FCF-882C-D90C99C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BEB1-153D-498A-9288-C4C1DF9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0BC86-1887-4F1D-874B-3766EFC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F26-869C-4A3D-9B4D-558008BA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F60B-23DB-4768-AC37-0ADE28F1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A6189-84F0-4A41-88B4-AD8BCCE3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9FD2D-4FFA-4003-9948-CFC100FE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D33A-B9E0-4432-83E6-4E937FD7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AECEB-0EAD-4185-9794-80FFCE4D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3CFE-7A29-4532-951C-BFA0C506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4159F-2533-4C75-90F2-DCB3A5F6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15C92-82D8-4582-809E-483BE6F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924FE-5061-45F0-810F-0719943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9DCC0-CFC6-4241-A120-A092DC6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48D-F079-4BA0-91B4-FA2D0A5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AF55-61E3-4BB8-A242-96E9855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1F01-A2C1-48DE-9CA3-B661C9E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EFABE-93CA-4A68-8E1D-ED83641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6106C-9576-482D-BC83-DC5BB818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072FE-03FB-4786-A780-7E608BB3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509A-8535-43FA-B086-AB8E86BC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AEBCA-DAEE-4E01-B4A6-85E8726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F15E-28C5-4734-B97B-C2A9338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AA905-058F-4E63-B785-F477F46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3BDB6-5594-4EE6-9A76-DFAD63A1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05C-9D50-428A-B0B6-30614EA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7DE7-84BE-4F8A-9F22-6C163E27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71196-A9D2-477D-AD8F-FBC2E27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FC7E9-0F67-4E39-8263-69AE4D37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BB51C-6EB0-4A5B-9C93-5C846815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E3AE0-AE5F-446A-A0CE-680EAC6C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D163B-6243-4688-BEDB-05F62E50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2E59-7224-4D0B-B4C7-090CE5E5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9AA-886D-42C5-92DA-FCFAB6108D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36a7c"/>
              </a:gs>
              <a:gs pos="50000">
                <a:srgbClr val="7ab3c7"/>
              </a:gs>
              <a:gs pos="100000">
                <a:srgbClr val="336a7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1c9d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D7F9-E710-48DA-AB26-F725EA45D7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BAC1-3833-40E6-82D7-A0DE3D1991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F24D-CB75-437A-B51D-0E649E8CA9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6F4-660A-4C53-A1BE-3D8A0E8CF4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2C3A-1B1D-497B-AA02-78AC69D18E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4C00-EDD5-4126-8FC8-BE7E01B04D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DCF4-87EB-404E-8BF2-BFB244814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ryanthabibscience.wikispaces.com/Technology+Resources" TargetMode="External"/><Relationship Id="rId2" Type="http://schemas.openxmlformats.org/officeDocument/2006/relationships/hyperlink" Target="http://classes.lakeviewacademy.com/classes/Teacher%20Webpage%20Patino.htm" TargetMode="External"/><Relationship Id="rId3" Type="http://schemas.openxmlformats.org/officeDocument/2006/relationships/hyperlink" Target="http://lvalibrary.wikispaces.com/" TargetMode="External"/><Relationship Id="rId4" Type="http://schemas.openxmlformats.org/officeDocument/2006/relationships/hyperlink" Target="http://classes.lakeviewacademy.com/classes/Teacher%20Webpage%20Fowler.htm" TargetMode="External"/><Relationship Id="rId5" Type="http://schemas.openxmlformats.org/officeDocument/2006/relationships/hyperlink" Target="http://lakeviewacademysecondgrade.wikispaces.com/" TargetMode="External"/><Relationship Id="rId6" Type="http://schemas.openxmlformats.org/officeDocument/2006/relationships/hyperlink" Target="http://lakeviewacademysecondgrade.wikispaces.com/" TargetMode="External"/><Relationship Id="rId7" Type="http://schemas.openxmlformats.org/officeDocument/2006/relationships/hyperlink" Target="http://lakeviewacademysecondgrade.wikispaces.com/" TargetMode="External"/><Relationship Id="rId8" Type="http://schemas.openxmlformats.org/officeDocument/2006/relationships/image" Target="../media/image23.png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akeviewliterature.wikispaces.com/" TargetMode="External"/><Relationship Id="rId2" Type="http://schemas.openxmlformats.org/officeDocument/2006/relationships/hyperlink" Target="http://manelymath.wikispaces.com/" TargetMode="External"/><Relationship Id="rId3" Type="http://schemas.openxmlformats.org/officeDocument/2006/relationships/hyperlink" Target="http://marthalipold.wikispaces.com/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rtromp.wikispaces.com/" TargetMode="External"/><Relationship Id="rId2" Type="http://schemas.openxmlformats.org/officeDocument/2006/relationships/hyperlink" Target="https://mrslowesclass.wikispaces.com/" TargetMode="External"/><Relationship Id="rId3" Type="http://schemas.openxmlformats.org/officeDocument/2006/relationships/hyperlink" Target="http://educationalwikis.wikispaces.com/Examples+of+educational+wikis" TargetMode="External"/><Relationship Id="rId4" Type="http://schemas.openxmlformats.org/officeDocument/2006/relationships/image" Target="../media/image27.png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000names.wikispaces.com/" TargetMode="External"/><Relationship Id="rId2" Type="http://schemas.openxmlformats.org/officeDocument/2006/relationships/hyperlink" Target="http://poetrycollaboration.wikispaces.com/" TargetMode="External"/><Relationship Id="rId3" Type="http://schemas.openxmlformats.org/officeDocument/2006/relationships/hyperlink" Target="http://writeyourstory.wikispaces.com/home" TargetMode="External"/><Relationship Id="rId4" Type="http://schemas.openxmlformats.org/officeDocument/2006/relationships/image" Target="../media/image29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egacy.teachersfirst.com/content/wiki/" TargetMode="External"/><Relationship Id="rId2" Type="http://schemas.openxmlformats.org/officeDocument/2006/relationships/hyperlink" Target="http://www.wikispaces.com/help" TargetMode="External"/><Relationship Id="rId3" Type="http://schemas.openxmlformats.org/officeDocument/2006/relationships/hyperlink" Target="http://help.wikispaces.com/Teacher+Help" TargetMode="External"/><Relationship Id="rId4" Type="http://schemas.openxmlformats.org/officeDocument/2006/relationships/hyperlink" Target="http://www.wikispaces.com/content/wiki-tour" TargetMode="External"/><Relationship Id="rId5" Type="http://schemas.openxmlformats.org/officeDocument/2006/relationships/hyperlink" Target="http://blog.wikispaces.com/2010/07/tips-and-tricks-subpages.html" TargetMode="External"/><Relationship Id="rId6" Type="http://schemas.openxmlformats.org/officeDocument/2006/relationships/hyperlink" Target="http://blog.wikispaces.com/2010/07/tips-and-tricks-subpages.html" TargetMode="External"/><Relationship Id="rId7" Type="http://schemas.openxmlformats.org/officeDocument/2006/relationships/image" Target="../media/image39.png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ettingtrickywithwikis.wikispaces.com/" TargetMode="External"/><Relationship Id="rId2" Type="http://schemas.openxmlformats.org/officeDocument/2006/relationships/hyperlink" Target="https://docs.google.com/present/view?id=dhn2vcv5_164hj4tw6gf&amp;pli=1" TargetMode="External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44440" y="2084400"/>
            <a:ext cx="8723520" cy="12254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Lakeview Academ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Summer Technology </a:t>
            </a:r>
            <a:r>
              <a:rPr b="0" i="1" lang="en-US" sz="2500" spc="-1" strike="noStrike">
                <a:solidFill>
                  <a:srgbClr val="3b3b3b"/>
                </a:solidFill>
                <a:latin typeface="Lucida Sans Unicode"/>
              </a:rPr>
              <a:t>&amp; Learning </a:t>
            </a: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Institu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512640" y="-371520"/>
            <a:ext cx="79790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Scienc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Spanish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Library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Music &amp; Dr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5"/>
              </a:rPr>
              <a:t>Lakeview 2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6"/>
              </a:rPr>
              <a:t>nd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7"/>
              </a:rPr>
              <a:t> Grad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8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Documents and Settings\Melinda.Reinhardt\Local Settings\Temporary Internet Files\Content.IE5\HUYUTHNN\MC900299713[1].wmf"/>
          <p:cNvPicPr/>
          <p:nvPr/>
        </p:nvPicPr>
        <p:blipFill>
          <a:blip r:embed="rId9"/>
          <a:stretch/>
        </p:blipFill>
        <p:spPr>
          <a:xfrm rot="1247400">
            <a:off x="4625640" y="2744280"/>
            <a:ext cx="3727440" cy="35672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624852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returning from Sp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a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Melinda.Reinhardt\Local Settings\Temporary Internet Files\Content.IE5\RYAW103F\MC900141055[1].wmf"/>
          <p:cNvPicPr/>
          <p:nvPr/>
        </p:nvPicPr>
        <p:blipFill>
          <a:blip r:embed="rId5"/>
          <a:stretch/>
        </p:blipFill>
        <p:spPr>
          <a:xfrm rot="20974800">
            <a:off x="4038120" y="2285640"/>
            <a:ext cx="40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Mr. Tromp's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rs. Lowe's Cla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used wix.com to create a webpage within a wik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Wikispaces Educational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Melinda.Reinhardt\Local Settings\Temporary Internet Files\Content.IE5\X058U0TE\MC900060335[1].wmf"/>
          <p:cNvPicPr/>
          <p:nvPr/>
        </p:nvPicPr>
        <p:blipFill>
          <a:blip r:embed="rId5"/>
          <a:stretch/>
        </p:blipFill>
        <p:spPr>
          <a:xfrm rot="20251800">
            <a:off x="5261040" y="4200480"/>
            <a:ext cx="32083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What Does 1,000 Look Lik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Po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Progressive Story Proje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1" descr=""/>
          <p:cNvPicPr/>
          <p:nvPr/>
        </p:nvPicPr>
        <p:blipFill>
          <a:blip r:embed="rId4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C:\Documents and Settings\Melinda.Reinhardt\Local Settings\Temporary Internet Files\Content.IE5\HUYUTHNN\MC900335524[1].wmf"/>
          <p:cNvPicPr/>
          <p:nvPr/>
        </p:nvPicPr>
        <p:blipFill>
          <a:blip r:embed="rId5"/>
          <a:stretch/>
        </p:blipFill>
        <p:spPr>
          <a:xfrm rot="1203000">
            <a:off x="6496200" y="1176480"/>
            <a:ext cx="1819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Melinda.Reinhardt\Local Settings\Temporary Internet Files\Content.IE5\QOC0DUV5\MP900422533[1].jpg"/>
          <p:cNvPicPr/>
          <p:nvPr/>
        </p:nvPicPr>
        <p:blipFill>
          <a:blip r:embed="rId2"/>
          <a:stretch/>
        </p:blipFill>
        <p:spPr>
          <a:xfrm>
            <a:off x="32004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ect Pages (Spelling, Math, 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room Projects P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 Page (information for parent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Resources Page (for students to use at school or at ho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Melinda.Reinhardt\Local Settings\Temporary Internet Files\Content.IE5\4B7TA4PV\MC900250659[1].wmf"/>
          <p:cNvPicPr/>
          <p:nvPr/>
        </p:nvPicPr>
        <p:blipFill>
          <a:blip r:embed="rId2"/>
          <a:stretch/>
        </p:blipFill>
        <p:spPr>
          <a:xfrm rot="20312400">
            <a:off x="6649920" y="845640"/>
            <a:ext cx="1524240" cy="1233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Documents and Settings\Melinda.Reinhardt\Local Settings\Temporary Internet Files\Content.IE5\2MM01B8X\MC900197899[1].wmf"/>
          <p:cNvPicPr/>
          <p:nvPr/>
        </p:nvPicPr>
        <p:blipFill>
          <a:blip r:embed="rId3"/>
          <a:stretch/>
        </p:blipFill>
        <p:spPr>
          <a:xfrm>
            <a:off x="3809880" y="4800600"/>
            <a:ext cx="19116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 by chapter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rubrics/instru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ion pages for reading assign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ctures, slide shows, vide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other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 up sheets for ev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gle calend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ekly homework sh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arch eng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C:\Documents and Settings\Melinda.Reinhardt\Local Settings\Temporary Internet Files\Content.IE5\ZFCO4CTT\MC900441523[1].wmf"/>
          <p:cNvPicPr/>
          <p:nvPr/>
        </p:nvPicPr>
        <p:blipFill>
          <a:blip r:embed="rId2"/>
          <a:stretch/>
        </p:blipFill>
        <p:spPr>
          <a:xfrm>
            <a:off x="2819520" y="1752480"/>
            <a:ext cx="3968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21896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Wiki Walk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Webin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Wiki Help (How to…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Wiki Teacher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Getting Started Video Tou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5"/>
              </a:rPr>
              <a:t>Create your own page l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6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1" descr=""/>
          <p:cNvPicPr/>
          <p:nvPr/>
        </p:nvPicPr>
        <p:blipFill>
          <a:blip r:embed="rId7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Documents and Settings\Melinda.Reinhardt\Local Settings\Temporary Internet Files\Content.IE5\TLI7FTPQ\MC900366354[1].wmf"/>
          <p:cNvPicPr/>
          <p:nvPr/>
        </p:nvPicPr>
        <p:blipFill>
          <a:blip r:embed="rId8"/>
          <a:stretch/>
        </p:blipFill>
        <p:spPr>
          <a:xfrm rot="1349400">
            <a:off x="5772240" y="1199880"/>
            <a:ext cx="236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6" descr=""/>
          <p:cNvPicPr/>
          <p:nvPr/>
        </p:nvPicPr>
        <p:blipFill>
          <a:blip r:embed="rId1"/>
          <a:stretch/>
        </p:blipFill>
        <p:spPr>
          <a:xfrm>
            <a:off x="249120" y="353880"/>
            <a:ext cx="4664160" cy="3522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Documents and Settings\Melinda.Reinhardt\Local Settings\Temporary Internet Files\Content.IE5\QOC0DUV5\MC900304311[1].wmf"/>
          <p:cNvPicPr/>
          <p:nvPr/>
        </p:nvPicPr>
        <p:blipFill>
          <a:blip r:embed="rId2"/>
          <a:stretch/>
        </p:blipFill>
        <p:spPr>
          <a:xfrm>
            <a:off x="4952880" y="1676520"/>
            <a:ext cx="22892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Gettingtrickywith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18 Interesting Ways to Use Wikis in the 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2" descr=""/>
          <p:cNvPicPr/>
          <p:nvPr/>
        </p:nvPicPr>
        <p:blipFill>
          <a:blip r:embed="rId3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paring your Wiki for summ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using your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Melinda.Reinhardt\AppData\Local\Microsoft\Windows\Temporary Internet Files\Content.IE5\6KTO98YU\MC900070810[1].wmf"/>
          <p:cNvPicPr/>
          <p:nvPr/>
        </p:nvPicPr>
        <p:blipFill>
          <a:blip r:embed="rId2"/>
          <a:stretch/>
        </p:blipFill>
        <p:spPr>
          <a:xfrm>
            <a:off x="2971800" y="2438280"/>
            <a:ext cx="3664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stomizing Your Navigation B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Navigation B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dget 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Teacher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Blo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ing Images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who are home si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C:\Documents and Settings\Melinda.Reinhardt\Local Settings\Temporary Internet Files\Content.IE5\2MM01B8X\MC900347477[1].wmf"/>
          <p:cNvPicPr/>
          <p:nvPr/>
        </p:nvPicPr>
        <p:blipFill>
          <a:blip r:embed="rId2"/>
          <a:stretch/>
        </p:blipFill>
        <p:spPr>
          <a:xfrm>
            <a:off x="3665520" y="2682720"/>
            <a:ext cx="3778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, relatives, and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C:\Documents and Settings\Melinda.Reinhardt\Local Settings\Temporary Internet Files\Content.IE5\XL0O486A\MC900442094[1].wmf"/>
          <p:cNvPicPr/>
          <p:nvPr/>
        </p:nvPicPr>
        <p:blipFill>
          <a:blip r:embed="rId2"/>
          <a:stretch/>
        </p:blipFill>
        <p:spPr>
          <a:xfrm>
            <a:off x="2895480" y="2743200"/>
            <a:ext cx="4019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from all over the wor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Documents and Settings\Melinda.Reinhardt\Local Settings\Temporary Internet Files\Content.IE5\X058U0TE\MC900088884[1].wmf"/>
          <p:cNvPicPr/>
          <p:nvPr/>
        </p:nvPicPr>
        <p:blipFill>
          <a:blip r:embed="rId2"/>
          <a:stretch/>
        </p:blipFill>
        <p:spPr>
          <a:xfrm>
            <a:off x="4572000" y="2971800"/>
            <a:ext cx="3638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of the fabulous things you are doing in your classroom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Documents and Settings\Melinda.Reinhardt\Local Settings\Temporary Internet Files\Content.IE5\3JCCAIOM\MC900187155[1].wmf"/>
          <p:cNvPicPr/>
          <p:nvPr/>
        </p:nvPicPr>
        <p:blipFill>
          <a:blip r:embed="rId2"/>
          <a:stretch/>
        </p:blipFill>
        <p:spPr>
          <a:xfrm rot="20349600">
            <a:off x="4509720" y="3006360"/>
            <a:ext cx="3651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room discus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ng and posting original wor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ing with other students and other classro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Melinda.Reinhardt\AppData\Local\Microsoft\Windows\Temporary Internet Files\Content.IE5\71MR86ES\MC900231763[1].wmf"/>
          <p:cNvPicPr/>
          <p:nvPr/>
        </p:nvPicPr>
        <p:blipFill>
          <a:blip r:embed="rId2"/>
          <a:stretch/>
        </p:blipFill>
        <p:spPr>
          <a:xfrm>
            <a:off x="4191120" y="3422520"/>
            <a:ext cx="2908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s parents and students one place to go for all of your classroom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365040" y="274680"/>
            <a:ext cx="832176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:\Documents and Settings\Melinda.Reinhardt\Local Settings\Temporary Internet Files\Content.IE5\PFLG1KZP\MC900030046[1].wmf"/>
          <p:cNvPicPr/>
          <p:nvPr/>
        </p:nvPicPr>
        <p:blipFill>
          <a:blip r:embed="rId2"/>
          <a:stretch/>
        </p:blipFill>
        <p:spPr>
          <a:xfrm>
            <a:off x="2514600" y="3048120"/>
            <a:ext cx="4471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es anything have to go home on paper anymo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Documents and Settings\Melinda.Reinhardt\Local Settings\Temporary Internet Files\Content.IE5\GXSHWFLP\MP900448676[1].jpg"/>
          <p:cNvPicPr/>
          <p:nvPr/>
        </p:nvPicPr>
        <p:blipFill>
          <a:blip r:embed="rId2"/>
          <a:stretch/>
        </p:blipFill>
        <p:spPr>
          <a:xfrm rot="20530800">
            <a:off x="3201480" y="2749680"/>
            <a:ext cx="3938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19:27:10Z</dcterms:created>
  <dc:creator>Fac - Montgomery,Bruce</dc:creator>
  <dc:description/>
  <dc:language>en-US</dc:language>
  <cp:lastModifiedBy>Fac - Reinhardt,Melinda</cp:lastModifiedBy>
  <dcterms:modified xsi:type="dcterms:W3CDTF">2011-08-03T15:39:49Z</dcterms:modified>
  <cp:revision>305</cp:revision>
  <dc:subject/>
  <dc:title>Building Your Classroom Wiki or Webpage</dc:title>
</cp:coreProperties>
</file>